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8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4B0-1614-4807-AE5B-4F31F703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ing low values for better ranked p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he best player in each category receives a ranking of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each players score across all statistical category.  Lowest summed score represents the best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d up the player rankings in the last col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IF utilized for the penalties to prevent the model from picking the same player more than o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n’t need a constraint in the last row b/c once Excel gets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player it won’t pick the player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um IF to pick the player and their statistics, even though it’s only Summing one cell (b/c it worked better than V Look-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50,000 (arbitrarily large number) to assign penalt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ction cell minimizes the sum of all player rankings and pen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D26-A5BA-4106-8D0D-7CFB92AC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D06-2EC5-4396-9228-768DA4C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D5A-699B-47D4-AF95-5C56538F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4B4-F465-4592-BAD8-FF300C39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285-9D9D-4C52-87A9-AD6D816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313-3AA2-43A0-8568-42FE22D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835-B2DB-44F6-B16D-D2A028C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BB4-E387-4CAD-B32A-520397BB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D7B-FC19-4062-A2AC-191BA986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A93-2B71-4F23-8AC0-B638E2D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48A-FFCE-4132-9095-4BDE042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589-6ED3-4EA8-8DD8-F7BC047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223-B585-485D-A819-697E0E38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09480"/>
            <a:ext cx="830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toring America’s International Leadership 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t’s not the US celeb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A's dream of capturing the Word Championship title ended Friday night in Japan when a sizzling hot Greek team had too much offense for the USA and posted a 101-95 victory in the semifinals of the 2006 World Champ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38720" y="2195640"/>
            <a:ext cx="344808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Data – RotoWorld &amp; CN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 and Statistics for every NBA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List to Top 300 players based on CNN rankings (large enough sample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 categories selected based on 10 most relevant measur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79344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assignment based on Country &amp;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ayer ranked across Statistical Categories (from 1 to 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r the score the better the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3080" y="1860480"/>
            <a:ext cx="84582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Sum of Player Ran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 to be Selected (integers between 1 and 3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Players 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and at most 3 Players pe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layer Selected only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hosen: Standard Evolutionary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3276720"/>
            <a:ext cx="40388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S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153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al vs. 2006 W.C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yne Wade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Kidd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onte West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Bron James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Marion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hard Lewis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rnett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West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Duncan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ton Bran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Bosh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 Miller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yne Wade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Paul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k Hinrich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Bron James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llo Anthony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Johnson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wn Jamison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e Battier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ight Howar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ton Bran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Bosh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 Miller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181480"/>
            <a:ext cx="2971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d “Score” - 10,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5181480"/>
            <a:ext cx="2971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d “Score” - 12,0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 Olympic Basketball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40388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 Dou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yan Mag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2520" y="3962520"/>
            <a:ext cx="40388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tis Hard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y Dre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2133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returned the same        player 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number of          decision variables i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r ran very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r is “laz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penalties for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12 roster spots our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 down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d statistical categories (Total Rebounds and Fou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size of player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iterations 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1828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666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5053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Shortcom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ly based off historic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are all equally weighted for all players /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Model Intangibl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ceptibility to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tch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is not a Popularity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tistical basis, our team is better than the current US World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lexibility i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to Solver (processing p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be will never play on an optimized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is our BIT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0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the Best of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2055960"/>
            <a:ext cx="2135160" cy="335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26542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gic and MJ ushered in the "Dream Team" era of Olympic basketball, winning the gold medal in Barcelon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gosla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the Worst of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4120" y="47235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 stuns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622000">
            <a:off x="989280" y="3275280"/>
            <a:ext cx="7535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rto Rico Stuns U.S. Men's Olympic Team 92-7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000" y="18280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huania shocks US in Gre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USA Results (5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Losses in 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27:42Z</dcterms:created>
  <dc:creator>Bryan Magstadt</dc:creator>
  <dc:description/>
  <dc:language>en-US</dc:language>
  <cp:lastModifiedBy>Curtis Hardwick</cp:lastModifiedBy>
  <dcterms:modified xsi:type="dcterms:W3CDTF">2006-12-11T18:09:20Z</dcterms:modified>
  <cp:revision>34</cp:revision>
  <dc:subject/>
  <dc:title>Slide 1</dc:title>
</cp:coreProperties>
</file>